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5F8-B5F9-491A-9DFA-A22DBD5E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492-DE4E-47B3-B2EF-8D54EE5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384-C59F-4BFA-8246-BB830651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779-932F-4114-B6A5-8788A412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8EB4-1872-4654-B5BA-2BCA68AB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AFD9-607A-441E-94B3-08DBB59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ECB5-558B-45BB-AFDC-18616B2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C7A3-E589-490F-A115-C77DDFA0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0BC7-4083-4E16-BA2E-498770D2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D719-D7AB-4081-BAD7-F64601F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8CCB-CCFF-4BD8-B556-1B22B314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064-9E92-4E54-9613-C068E773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599-7AD0-4CF3-B29F-699F2B1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A8E8-B07D-473F-9443-AF9FA8F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0B56-AC02-444B-B82D-91B25AE4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03F3-9F41-4CCA-BEBF-5CD8D6BE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381F-4337-4697-A060-C4D9B610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AF7-4304-45D5-BB8B-1380FA07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C66-825C-4340-AADD-A3153BC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552-1E4D-43BD-B888-257CC536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0CA-449B-4055-B473-7CA52228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FBF-DE55-46F1-A8BE-71D3052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493-017A-4B25-BC13-29DE2CC5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737-BCB7-4358-9A1E-A3000A5E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9D2-E9F5-4360-868F-E067B42E1E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6C37-FC5C-4D55-B5A5-F4A2D948E0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uy 2030 on todays equivalent of 2000 a month workers have to set aside 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vin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s or beliefs considered unsophisticated and naï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47246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keness or model, fe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ce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ise above or g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28958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mbr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nse, displeasure, doubt or hos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nctu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excessive self-righteousness or smug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Practice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vocabulary war sentence. Use 5 of the words in one sentence that makes sense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 we get a reference to what the title means. Why is it a sin to kill a mockingbird? How could this function as a metap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 children a little disappointed and a little ashamed of Atticus compared to other fa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Cal to run to the neighbors banging on do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Atticus do that surprises the children and makes them realize they don’t know everything about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Jem say that they should not tell anyone at school about this inc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cus-One of the most famous characters in American Literature. He acts as a sort of moral compass in the novel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: Find one quote from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different chapters that shows what kind of man Atticus i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            Quote                Personality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019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apters 11 and 12 fo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retire by 2030 on today’s equivalent of $2,000 a month, workers have to set aside $8000 a year start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righ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cused Freewri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r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orgo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ed hat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ocabulary Unit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if it doesn’t includ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d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n-out or we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33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uri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esome, horrible or revo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spaper gave all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f the cr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tori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ving praise, reward or 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tul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ing impatient irritation, especially over something mi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ga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tul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of her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809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roga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usive 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er prerogative to choose the first song at the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4:41:43Z</dcterms:created>
  <dc:creator>Angie</dc:creator>
  <dc:description/>
  <dc:language>en-US</dc:language>
  <cp:lastModifiedBy>Angie</cp:lastModifiedBy>
  <dcterms:modified xsi:type="dcterms:W3CDTF">2009-02-10T05:16:34Z</dcterms:modified>
  <cp:revision>3</cp:revision>
  <dc:subject/>
  <dc:title>DOL</dc:title>
</cp:coreProperties>
</file>